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AFB9-DD14-4AD9-A834-F9BBD18A74B7}" type="slidenum">
              <a:rPr b="0" lang="fi-FI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239-61F4-43CC-B421-79E18AF1A5A2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79A-24B3-4FBD-A23F-16D1855BAD25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BCC-F17A-434A-ADC0-EF61D1C61E44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F5FD-72D0-414C-9B59-6E2CF0204195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45D6-A7BC-46C8-95E4-ECF28E6BD92A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837-B299-4936-B180-72C75904FB72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D4F7-86EF-4B82-B58C-89AADE01086B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A13-1F9A-452D-A3D6-979A69276F10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DE8-6BD1-4C56-90F6-47D3316EEB5A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C58-FFF7-4C30-8497-413EA90935AA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BE01-1027-4F48-8A7F-E59CC91B6238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9349-BB8B-4E95-9D4E-75EA61C24985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FA7-CF4E-44AF-B20C-AEF2D5AE6FB5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D828-4997-4D26-BD9D-E16E56639152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59E9-3E96-4D3E-B955-786858465AA7}" type="slidenum">
              <a:rPr b="0" lang="fi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814-3AEA-41DF-AE61-9BA7377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642-2E91-460C-9EC8-207C92D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A49-EF29-4FCD-8956-FA49525E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32F-829C-4F13-B965-3D5DE866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6411-B4D5-4358-89CB-05225CE7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854-BFF0-48D9-B1C8-76D85A89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94FE-9FF0-4E8D-990A-5C5645B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4808-C781-4163-9A77-80B9DFF3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EBE0-7ACE-4F7C-AA75-1E3C6EB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BD5-4530-4DE3-9341-6EFDBD53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D34-24A1-4547-88BB-455BC9E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92F-8033-491A-9F01-3B11666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E129-8F17-4C09-8E09-F2823C5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47C-8DBB-4A2A-9619-05A67F8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A0A-C94A-47B1-B59B-F3F8469A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06A9-D45C-4EDE-BA68-780928AF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FD8-EDF7-43AC-9CDA-D777B7D2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8B6-4D12-4EE1-A022-3DCB2579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5E2-4A70-442A-A94C-B006CDF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18D-5FBD-4F8B-A90C-97334F7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595-8B77-434C-A081-ECDC7DC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955-20F7-4EBA-A52B-8CABBBF1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834-61F1-4C44-928E-40C308C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2C9-13FF-4503-B513-1F20ADC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607A-DF2A-4933-88BE-7F8D19D844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F6D-6551-42E7-8EBF-92F8E6819F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06700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3"/>
          <p:cNvSpPr txBox="1"/>
          <p:nvPr/>
        </p:nvSpPr>
        <p:spPr>
          <a:xfrm>
            <a:off x="1752480" y="304920"/>
            <a:ext cx="5891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otentiaali -eli asemaenerg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147168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phant"/>
                <a:ea typeface="Times New Roman"/>
              </a:rPr>
              <a:t>Potentiaalienergia riippuu kappaleen painosta ja etäisyydestä maanpinna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phan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Times New Roman"/>
              </a:rPr>
              <a:t>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Elephant"/>
                <a:ea typeface="Times New Roman"/>
              </a:rPr>
              <a:t>pot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Times New Roman"/>
              </a:rPr>
              <a:t>= G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kstikehys 6"/>
          <p:cNvSpPr/>
          <p:nvPr/>
        </p:nvSpPr>
        <p:spPr>
          <a:xfrm>
            <a:off x="964440" y="3643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G = kappaleen pai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kstikehys 7"/>
          <p:cNvSpPr/>
          <p:nvPr/>
        </p:nvSpPr>
        <p:spPr>
          <a:xfrm>
            <a:off x="3661200" y="36432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(massa (kg) kerrottuna kymmenellä 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kstikehys 8"/>
          <p:cNvSpPr/>
          <p:nvPr/>
        </p:nvSpPr>
        <p:spPr>
          <a:xfrm>
            <a:off x="1135440" y="450072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h  = etäisyys maanpinna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3"/>
          <p:cNvSpPr txBox="1"/>
          <p:nvPr/>
        </p:nvSpPr>
        <p:spPr>
          <a:xfrm>
            <a:off x="1428840" y="228600"/>
            <a:ext cx="6500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Kineettinen energia  eli liike-energi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66680" y="21337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920" y="1289160"/>
            <a:ext cx="88390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Riippuu  liikkuvan kappaleen massasta ja nopeudes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Elephant"/>
                <a:ea typeface="Times New Roman"/>
              </a:rPr>
              <a:t>kin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 = 1/2m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Elephant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  <a:ea typeface="Times New Roman"/>
              </a:rPr>
              <a:t>m=mas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  <a:ea typeface="Times New Roman"/>
              </a:rPr>
              <a:t>v= nopeu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3962520" y="342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4038480" y="4572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3962520" y="5715000"/>
            <a:ext cx="1828800" cy="847800"/>
          </a:xfrm>
          <a:prstGeom prst="rect">
            <a:avLst/>
          </a:prstGeom>
          <a:ln w="0">
            <a:noFill/>
          </a:ln>
        </p:spPr>
      </p:pic>
      <p:sp>
        <p:nvSpPr>
          <p:cNvPr id="194" name="Tekstikehys 8"/>
          <p:cNvSpPr/>
          <p:nvPr/>
        </p:nvSpPr>
        <p:spPr>
          <a:xfrm>
            <a:off x="5362200" y="38862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= 3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kstikehys 9"/>
          <p:cNvSpPr/>
          <p:nvPr/>
        </p:nvSpPr>
        <p:spPr>
          <a:xfrm>
            <a:off x="5448960" y="5105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 = 6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kstikehys 10"/>
          <p:cNvSpPr/>
          <p:nvPr/>
        </p:nvSpPr>
        <p:spPr>
          <a:xfrm>
            <a:off x="6211080" y="60199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 = 60 km/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kstikehys 13"/>
          <p:cNvSpPr/>
          <p:nvPr/>
        </p:nvSpPr>
        <p:spPr>
          <a:xfrm>
            <a:off x="132480" y="449568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Verdana"/>
              </a:rPr>
              <a:t>Vertaa energian suuruutta</a:t>
            </a: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Kineettinen energia ja potentiaalienergia muuntuvat toisikse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9" name="Picture 5" descr="coasterAni.gif (170430 bytes)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45040"/>
          </a:xfrm>
          <a:prstGeom prst="rect">
            <a:avLst/>
          </a:prstGeom>
          <a:ln w="0">
            <a:noFill/>
          </a:ln>
        </p:spPr>
      </p:pic>
      <p:sp>
        <p:nvSpPr>
          <p:cNvPr id="200" name="Tekstikehys 12"/>
          <p:cNvSpPr/>
          <p:nvPr/>
        </p:nvSpPr>
        <p:spPr>
          <a:xfrm>
            <a:off x="684000" y="6095880"/>
            <a:ext cx="67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Ylhäällä vaunu ei liiku, siis kaikki energia potentiaalienergia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kstikehys 13"/>
          <p:cNvSpPr/>
          <p:nvPr/>
        </p:nvSpPr>
        <p:spPr>
          <a:xfrm>
            <a:off x="643320" y="6488280"/>
            <a:ext cx="73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Alhaalla vaunu on maanpinnan tasossa, ei siis potentiaalienergia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tentiaalienergia voi muuttua kineettiseksi energiaks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yös kineettinen energia voi muuttua potentiaalienergiaks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nergian kokonaismäärä ei muutu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kstikehys 3"/>
          <p:cNvSpPr/>
          <p:nvPr/>
        </p:nvSpPr>
        <p:spPr>
          <a:xfrm>
            <a:off x="1203840" y="4572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syöksylas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kstikehys 1"/>
          <p:cNvSpPr/>
          <p:nvPr/>
        </p:nvSpPr>
        <p:spPr>
          <a:xfrm>
            <a:off x="1006920" y="533520"/>
            <a:ext cx="70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http://www.teachersdomain.org/asset/mck05_int_rollercoaster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kstikehys 2"/>
          <p:cNvSpPr/>
          <p:nvPr/>
        </p:nvSpPr>
        <p:spPr>
          <a:xfrm>
            <a:off x="1261800" y="16002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vuoristor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3209760" cy="4280040"/>
          </a:xfrm>
          <a:prstGeom prst="rect">
            <a:avLst/>
          </a:prstGeom>
          <a:ln w="0">
            <a:noFill/>
          </a:ln>
        </p:spPr>
      </p:pic>
      <p:sp>
        <p:nvSpPr>
          <p:cNvPr id="207" name="Tekstikehys 5"/>
          <p:cNvSpPr/>
          <p:nvPr/>
        </p:nvSpPr>
        <p:spPr>
          <a:xfrm>
            <a:off x="3576960" y="251460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Seiväshypyssä hyppääjä muutta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liike-energiansa seipään avull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Verdana"/>
              </a:rPr>
              <a:t>potentiaalienergiak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kstikehys 6"/>
          <p:cNvSpPr/>
          <p:nvPr/>
        </p:nvSpPr>
        <p:spPr>
          <a:xfrm>
            <a:off x="376560" y="6488280"/>
            <a:ext cx="47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reative Commons Attribution ShareAlike 3.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6858000" cy="4568760"/>
          </a:xfrm>
          <a:prstGeom prst="rect">
            <a:avLst/>
          </a:prstGeom>
          <a:ln w="0">
            <a:noFill/>
          </a:ln>
        </p:spPr>
      </p:pic>
      <p:sp>
        <p:nvSpPr>
          <p:cNvPr id="210" name="Suorakulmio 3"/>
          <p:cNvSpPr/>
          <p:nvPr/>
        </p:nvSpPr>
        <p:spPr>
          <a:xfrm>
            <a:off x="3429000" y="45496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Verdana"/>
              </a:rPr>
              <a:t>Millaista energiaa on keinujalla keinumisen eri vaiheiss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Suorakulmio 4"/>
          <p:cNvSpPr/>
          <p:nvPr/>
        </p:nvSpPr>
        <p:spPr>
          <a:xfrm>
            <a:off x="304920" y="5181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Verdana"/>
              </a:rPr>
              <a:t>GFDL), GNU Free docummentation licence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Comic Sans MS"/>
              </a:rPr>
              <a:t>Energia 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ineettinen ja potentiaalienerg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kstikehys 3"/>
          <p:cNvSpPr/>
          <p:nvPr/>
        </p:nvSpPr>
        <p:spPr>
          <a:xfrm>
            <a:off x="3352680" y="571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Verdana"/>
              </a:rPr>
              <a:t>(GFDL), GNU Free docummentation licenc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Energi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n kykyä saada kappaleet liikkee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nergian tunnus on 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nergian yksikkö on 1 joule =  1J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 1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Comic Sans MS"/>
              </a:rPr>
              <a:t>Energialajeja o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emiallinen - kaasu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alo – salam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ämpö– lieden levy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dinenergia - aurinko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ekaaninen energia - vuoristorat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ääni – musiikki mp3-soittimest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ähkö - hehkulamppu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ineettinen eli liike-energia: liikkeen energia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tentiaali eli asemaenergia: varastoitunutta energia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99"/>
                </a:solidFill>
                <a:latin typeface="Arial"/>
              </a:rPr>
              <a:t>Mekaanisen energian laj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99"/>
                </a:solidFill>
                <a:latin typeface="Arial"/>
              </a:rPr>
              <a:t>Vuoristorat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6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Comic Sans MS"/>
              </a:rPr>
              <a:t>Vuoristorat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aunu liikkuu vuoristoradalla.  Sillä on kineettistä energiaa,  koska se liikkuu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un se hidastaa radan huipulla, sillä on potentiaali- energiaa  paikan perusteella.  Sillä on potentiaalia liikkua, koska se on maanpinnan yläpuolella ja sillä on mahdollisuus lähteä liikkeelle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14600" y="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51:02Z</dcterms:created>
  <dc:creator> Nicolas V. Bates</dc:creator>
  <dc:description/>
  <dc:language>en-US</dc:language>
  <cp:lastModifiedBy>Ritva Tamminen</cp:lastModifiedBy>
  <dcterms:modified xsi:type="dcterms:W3CDTF">2009-10-03T09:58:21Z</dcterms:modified>
  <cp:revision>25</cp:revision>
  <dc:subject/>
  <dc:title>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